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7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23.xml"/><Relationship Id="rId12" Type="http://schemas.openxmlformats.org/officeDocument/2006/relationships/slide" Target="slide23.xml"/><Relationship Id="rId13" Type="http://schemas.openxmlformats.org/officeDocument/2006/relationships/slide" Target="slide23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25.xml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25.xml"/><Relationship Id="rId8" Type="http://schemas.openxmlformats.org/officeDocument/2006/relationships/slide" Target="slide26.xml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5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.xml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sthe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3600" y="54936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101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m Uri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33640" y="549360"/>
            <a:ext cx="75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7" idx="3"/>
            <a:endCxn id="17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-obstruktive Diure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nach FLUTD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 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4520" y="5692320"/>
            <a:ext cx="428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1400" y="549360"/>
            <a:ext cx="74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3" idx="3"/>
            <a:endCxn id="17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drenokortizism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rksa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6960" y="549360"/>
            <a:ext cx="76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rksame 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3"/>
            <a:endCxn id="18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Mannito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Nier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5" idx="3"/>
            <a:endCxn id="18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9" name=""/>
          <p:cNvCxnSpPr>
            <a:stCxn id="185" idx="3"/>
            <a:endCxn id="18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1122840" y="549360"/>
            <a:ext cx="72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m Nierenmark 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22120" y="549360"/>
            <a:ext cx="748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m Nierenmark zu wen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3" idx="3"/>
            <a:endCxn id="19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ullary-washo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störung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2120" y="549360"/>
            <a:ext cx="748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m Nierenmark zu weni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9" idx="3"/>
            <a:endCxn id="20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ullary-washout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riumarmes Futte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5" idx="3"/>
            <a:endCxn id="20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9" name=""/>
          <p:cNvCxnSpPr>
            <a:stCxn id="205" idx="3"/>
            <a:endCxn id="20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024560" y="549360"/>
            <a:ext cx="71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ekund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3" idx="3"/>
            <a:endCxn id="216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7" name=""/>
          <p:cNvCxnSpPr>
            <a:stCxn id="213" idx="3"/>
            <a:endCxn id="21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24560" y="549360"/>
            <a:ext cx="71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kund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DH-Bild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2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H-Freisetzung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4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1" idx="3"/>
            <a:endCxn id="22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5" name=""/>
          <p:cNvCxnSpPr>
            <a:stCxn id="221" idx="3"/>
            <a:endCxn id="22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062360" y="549360"/>
            <a:ext cx="713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sekundärer 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2360" y="549360"/>
            <a:ext cx="713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ekundärer 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DH-Bildung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29" idx="3"/>
            <a:endCxn id="23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cephal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oplas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80640" y="54936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3" action="ppaction://hlinksldjump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120" y="63968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sserantei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Uri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3"/>
            <a:endCxn id="10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6012000" y="352116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ei PD/PU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Freisetz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2360" y="549360"/>
            <a:ext cx="713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zentraler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ekundärer zentr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DH-Freisetzung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5" idx="3"/>
            <a:endCxn id="23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kali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 Alkoho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24560" y="549360"/>
            <a:ext cx="71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phrogen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1" idx="3"/>
            <a:endCxn id="244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45" name=""/>
          <p:cNvCxnSpPr>
            <a:stCxn id="241" idx="3"/>
            <a:endCxn id="246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Zer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1" idx="3"/>
            <a:endCxn id="247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kompetitive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4" action="ppaction://hlinksldjump"/>
              </a:rPr>
              <a:t>angeborener Mangel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5" action="ppaction://hlinksldjump"/>
              </a:rPr>
              <a:t>Fehlfun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6" action="ppaction://hlinksldjump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geborener Mangel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hlfun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8840" y="549360"/>
            <a:ext cx="722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bei PD/PU &gt; primäre PU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nephrogen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ngebor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Mangel/Fehlfunktion der 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1" idx="3"/>
            <a:endCxn id="254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ge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ipid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mpetitive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32840" y="549360"/>
            <a:ext cx="78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sthenurie &gt; Wasseranteil im Urin ↑ &gt; bei PD/PU &gt; primäre PU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phrogen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kompetitive Hemm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des 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3"/>
            <a:endCxn id="26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cherichia-coli-Toxin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kalz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von Koffei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er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5560" y="549360"/>
            <a:ext cx="751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sthenurie &gt; Wasseranteil im Urin ↑ &gt; bei PD/PU &gt; primäre PU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DH-vermittel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ephrogener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Diabetes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sipidu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Zerstör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DH-Rezepto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63" idx="3"/>
            <a:endCxn id="26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kali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2360" y="593568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eeinflus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9" idx="3"/>
            <a:endCxn id="272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73" name=""/>
          <p:cNvCxnSpPr>
            <a:stCxn id="269" idx="3"/>
            <a:endCxn id="27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72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sycho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ur Hund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24920" y="549360"/>
            <a:ext cx="69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einfluss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7" idx="3"/>
            <a:endCxn id="27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81" name=""/>
          <p:cNvCxnSpPr>
            <a:stCxn id="277" idx="3"/>
            <a:endCxn id="27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1024560" y="549360"/>
            <a:ext cx="71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imäre P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Beeinflussung des Durstzentrum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äsion d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4560" y="549360"/>
            <a:ext cx="71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einflussung des Durstzentrum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äsion des Hypothala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5" idx="3"/>
            <a:endCxn id="28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cephal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24560" y="549360"/>
            <a:ext cx="71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einflussung des Durstzentrums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timulie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1" idx="3"/>
            <a:endCxn id="29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mmo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ei Leberinsuffizienz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kalz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thyre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9120" y="617904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rimäre P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endCxn id="109" idx="1"/>
          </p:cNvCxnSpPr>
          <p:nvPr/>
        </p:nvCxnSpPr>
        <p:spPr>
          <a:xfrm flipV="1">
            <a:off x="3322440" y="3404520"/>
            <a:ext cx="2680200" cy="678600"/>
          </a:xfrm>
          <a:prstGeom prst="bentConnector3">
            <a:avLst>
              <a:gd name="adj1" fmla="val 49932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2" name=""/>
          <p:cNvCxnSpPr>
            <a:endCxn id="110" idx="1"/>
          </p:cNvCxnSpPr>
          <p:nvPr/>
        </p:nvCxnSpPr>
        <p:spPr>
          <a:xfrm>
            <a:off x="3322440" y="4083120"/>
            <a:ext cx="2680200" cy="673920"/>
          </a:xfrm>
          <a:prstGeom prst="bentConnector3">
            <a:avLst>
              <a:gd name="adj1" fmla="val 49932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3" name=""/>
          <p:cNvSpPr/>
          <p:nvPr/>
        </p:nvSpPr>
        <p:spPr>
          <a:xfrm>
            <a:off x="993240" y="549360"/>
            <a:ext cx="55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ei PD/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 = Polydips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i PD/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24920" y="549360"/>
            <a:ext cx="69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7" idx="3"/>
            <a:endCxn id="120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1" name=""/>
          <p:cNvCxnSpPr>
            <a:stCxn id="117" idx="3"/>
            <a:endCxn id="12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DH-vermitte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7" idx="3"/>
            <a:endCxn id="123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osmotisch wirksa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Funktions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2360" y="591012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ktionsverlust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24560" y="549360"/>
            <a:ext cx="71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unktionsverlust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phr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3"/>
            <a:endCxn id="13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2" name=""/>
          <p:cNvCxnSpPr>
            <a:stCxn id="127" idx="3"/>
            <a:endCxn id="133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9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24560" y="549360"/>
            <a:ext cx="71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unktionsverlust vo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Nephrone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kute 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7" idx="3"/>
            <a:endCxn id="13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sch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ptosp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nahme von Toxi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Ethylenglyko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osinen, Weintraub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smotisch wirksa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m Nierenmar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u wen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1" idx="3"/>
            <a:endCxn id="14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5" name=""/>
          <p:cNvCxnSpPr>
            <a:stCxn id="141" idx="3"/>
            <a:endCxn id="14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1024560" y="549360"/>
            <a:ext cx="71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Einfluss von osmotisch wirksamen Teil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atr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9" idx="3"/>
            <a:endCxn id="15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3" name=""/>
          <p:cNvCxnSpPr>
            <a:stCxn id="149" idx="3"/>
            <a:endCxn id="15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602136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wirksa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edikamen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9" idx="3"/>
            <a:endCxn id="154" idx="1"/>
          </p:cNvCxnSpPr>
          <p:nvPr/>
        </p:nvCxnSpPr>
        <p:spPr>
          <a:xfrm flipV="1">
            <a:off x="3312720" y="2055600"/>
            <a:ext cx="2699640" cy="202608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7" name=""/>
          <p:cNvCxnSpPr>
            <a:stCxn id="149" idx="3"/>
            <a:endCxn id="155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24560" y="549360"/>
            <a:ext cx="71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im Harn zu vi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9120" y="6153480"/>
            <a:ext cx="27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21400" y="549360"/>
            <a:ext cx="745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sthenur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Wasseranteil im Urin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ei PD/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primäre PU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 osmotisch wirksamen Teilch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m Harn zu vi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Glukosurie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mellit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nconi-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s Tubulusepithel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. B. durch Nephrotoxine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9120" y="5910120"/>
            <a:ext cx="27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/PU = Polydipsie/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 = Polyur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3:45:09Z</dcterms:modified>
  <cp:revision>329</cp:revision>
  <dc:subject/>
  <dc:title>Vorstellung einer Neuheit</dc:title>
</cp:coreProperties>
</file>